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F5A-7BA4-4568-B2EB-F0253545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E60-B0B0-41AE-9B2B-6875BCC3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E42-62B0-448B-812A-09057790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33B-D348-41F4-B423-47D4FBA1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B61-3A73-4C47-9AD0-5746B2B3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DBD-7606-4E5C-A51E-DB00DC61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708-8BAD-49A3-8941-1CC55353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7D1-BC11-4B2D-BD48-CF72B533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CB5-742B-4C3F-BF47-970FC601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BD4-D1D2-4689-8827-B1AE291F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B55-1965-4CE6-8DA6-F7E9772C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E9B-EF40-4DFF-BD82-8317B683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DFA0-772E-4D1A-B3AA-277DE181B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873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9520" y="5805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2906640" y="981000"/>
            <a:ext cx="6007320" cy="495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449440" y="3068640"/>
            <a:ext cx="6450120" cy="66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1828800" y="5173560"/>
            <a:ext cx="7085160" cy="559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179280" y="371628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نفاق والاستهز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179280" y="1557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خشى على صاحبه من الكفر والخروج من المل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"/>
          <p:cNvPicPr/>
          <p:nvPr/>
        </p:nvPicPr>
        <p:blipFill>
          <a:blip r:embed="rId6"/>
          <a:stretch/>
        </p:blipFill>
        <p:spPr>
          <a:xfrm>
            <a:off x="4484520" y="5910120"/>
            <a:ext cx="27608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52560" y="4829040"/>
            <a:ext cx="35308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92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9503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24000" y="1125360"/>
            <a:ext cx="3408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الاستهزاء بالدين وأه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206064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ز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2552760"/>
            <a:ext cx="866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رجل في غزو تبوك : ما رأينا مثل قرائنا هؤلاء أرغب بطونا ولا أكذب ألسنا ولا أجبن عند اللق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فبلغ ذلك رسول الله </a:t>
            </a:r>
            <a:r>
              <a:rPr b="1" lang="en-US" sz="3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نزل 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1519200" y="4659480"/>
            <a:ext cx="74278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50920" y="4292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بركم بنفاق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عليهم بالك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علامات المنافقين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ستهزاء بالدين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طعن في أحكام الشريعة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شأن علمائ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استهزاء ب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 يخشى على صاحبه من الكفر والخروج من الم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هزاء بالعلماء وأهل الخير والصلا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الاستهزاء بالد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ُستهزئ بالله وآياته ورسو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رتد لا يقبل له أي عذر فإما أن يتوب وإما أن يقتل كف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زاح والهزل بشيء من 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أجمع العلماء أنه كفر ور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في قوله تعالى 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دليل على أن اعتقاد المنافقين في ا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صاد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53737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ت الآيات على أن الكف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قول كما يكون بالفعل والق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6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بة الصاد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قبولة وتجب ما قبلها من نفاق أو كفر أو س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4491000" y="4457880"/>
            <a:ext cx="27608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27160" y="981000"/>
            <a:ext cx="8665920" cy="547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3357720"/>
            <a:ext cx="856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5445000"/>
            <a:ext cx="856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6237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57:40Z</dcterms:modified>
  <cp:revision>1857</cp:revision>
  <dc:subject/>
  <dc:title>عرض تقديمي في PowerPoint</dc:title>
</cp:coreProperties>
</file>